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EE9-018D-4907-B7F4-D0EACE45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BBF-8553-45CE-8124-DD7E087F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9EA-A920-43D3-ABEF-ABA5D391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CC0-1340-48C5-84A1-7FDBFCF2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FF0B-014B-40BF-8FCA-5E77C0A7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3F34-296F-4718-9E2A-AA6E8820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A473-9A6C-49D3-A7CB-96F681CA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3BD6-3126-45F1-B376-C3E2205B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4338-C5EA-4339-AF1B-0DDF657C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AD0A-EC07-4BB4-AED2-7FC55ECC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95A9-E007-4E67-B53F-E47DB931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B05-DA62-49DA-A565-32417E29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024C-7162-49F0-8DEF-FEB4BCC7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C3B9-C93C-47DE-8E5F-3D6F3F16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115C-8BEF-4A0C-A178-89EA67AA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3BD8-856A-42F5-AEA0-136549F3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84C2-F4FE-4A14-961F-722AACC7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4665-EE78-499C-BA5B-B4D79173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799-4300-4951-B7F2-E9FD3C0C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9C7-100A-4056-84D0-23BA4CB1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8CE-2F9D-4AE7-9C17-F57A81DA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818-40DE-44D8-BC15-9CCD0744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9C1-0ECE-4252-A55E-1C8C6128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49D-543B-4613-89E8-94B89963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7C33-9A47-4E3F-B362-D18FB7D76EF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:\графика\asadal\scool\scool\38 [Converted].png"/>
          <p:cNvPicPr/>
          <p:nvPr/>
        </p:nvPicPr>
        <p:blipFill>
          <a:blip r:embed="rId6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:\графика\asadal\scool\scool\23\10101010.png"/>
          <p:cNvPicPr/>
          <p:nvPr/>
        </p:nvPicPr>
        <p:blipFill>
          <a:blip r:embed="rId7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357A-A00D-42D8-A0DA-AC3C386E50D7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91;&#1087;&#1088;&#1072;&#1078;&#1085;&#1077;&#1085;&#1080;&#1103;%20&#1085;&#1072;%20&#1074;&#1085;&#1080;&#1084;&#1072;&#1085;&#1080;&#1077;.pptx" TargetMode="Externa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2160" y="1484280"/>
            <a:ext cx="7772400" cy="42847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376092"/>
                </a:solidFill>
                <a:latin typeface="Times New Roman"/>
              </a:rPr>
              <a:t>ТЕМА СОБРАНИЯ</a:t>
            </a:r>
            <a:br>
              <a:rPr sz="6000"/>
            </a:br>
            <a:r>
              <a:rPr b="1" lang="ru-RU" sz="6000" spc="-1" strike="noStrike">
                <a:solidFill>
                  <a:srgbClr val="376092"/>
                </a:solidFill>
                <a:latin typeface="Cambria"/>
              </a:rPr>
              <a:t>«КАК ПОМОЧЬ РЕБЁНКУ СТАТЬ ВНИМАТЕЛЬНЫМ?»</a:t>
            </a:r>
            <a:endParaRPr b="1" lang="en-US" sz="60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92000" y="5661000"/>
            <a:ext cx="50022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76092"/>
                </a:solidFill>
                <a:latin typeface="Times New Roman"/>
              </a:rPr>
              <a:t>Составила: Григорьева М.А., учитель начальных классов МОУ СОШ с. Талдан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400" y="1071720"/>
            <a:ext cx="8064360" cy="39607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76092"/>
                </a:solidFill>
                <a:latin typeface="Times New Roman"/>
              </a:rPr>
              <a:t>Объём внимания</a:t>
            </a:r>
            <a:r>
              <a:rPr b="1" lang="ru-RU" sz="4400" spc="-1" strike="noStrike">
                <a:solidFill>
                  <a:srgbClr val="376092"/>
                </a:solidFill>
                <a:latin typeface="Times New Roman"/>
              </a:rPr>
              <a:t> характеризуется количеством одновременно воспринимаемых и удерживаемых в сознании объектов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8160" y="928440"/>
            <a:ext cx="8745480" cy="504036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76092"/>
                </a:solidFill>
                <a:latin typeface="Times New Roman"/>
              </a:rPr>
              <a:t>Устойчивость внимания- </a:t>
            </a:r>
            <a:r>
              <a:rPr b="1" lang="ru-RU" sz="4800" spc="-1" strike="noStrike">
                <a:solidFill>
                  <a:srgbClr val="376092"/>
                </a:solidFill>
                <a:latin typeface="Times New Roman"/>
              </a:rPr>
              <a:t>это одновременное внимание к двум или нескольким объектам при одновременном выполнении действий с ними или наблюдения за ними</a:t>
            </a:r>
            <a:r>
              <a:rPr b="1" lang="ru-RU" sz="4400" spc="-1" strike="noStrike">
                <a:solidFill>
                  <a:srgbClr val="376092"/>
                </a:solidFill>
                <a:latin typeface="Cambria"/>
              </a:rPr>
              <a:t> 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1571760"/>
            <a:ext cx="8601120" cy="35287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76092"/>
                </a:solidFill>
                <a:latin typeface="Times New Roman"/>
              </a:rPr>
              <a:t>Переключение внимания-</a:t>
            </a:r>
            <a:r>
              <a:rPr b="1" lang="ru-RU" sz="4400" spc="-1" strike="noStrike">
                <a:solidFill>
                  <a:srgbClr val="376092"/>
                </a:solidFill>
                <a:latin typeface="Times New Roman"/>
              </a:rPr>
              <a:t> это перемещение внимания с одного объекта на другой или с одной деятельности на другую в связи с постановкой новой задачи</a:t>
            </a:r>
            <a:r>
              <a:rPr b="1" lang="ru-RU" sz="3200" spc="-1" strike="noStrike">
                <a:solidFill>
                  <a:srgbClr val="376092"/>
                </a:solidFill>
                <a:latin typeface="Cambria"/>
              </a:rPr>
              <a:t> </a:t>
            </a:r>
            <a:endParaRPr b="1" lang="en-US" sz="32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cover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5480" y="642960"/>
            <a:ext cx="8529480" cy="385776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76092"/>
                </a:solidFill>
                <a:latin typeface="Times New Roman"/>
              </a:rPr>
              <a:t>Внимание </a:t>
            </a:r>
            <a:br>
              <a:rPr sz="7200"/>
            </a:br>
            <a:r>
              <a:rPr b="1" lang="ru-RU" sz="7200" spc="-1" strike="noStrike">
                <a:solidFill>
                  <a:srgbClr val="376092"/>
                </a:solidFill>
                <a:latin typeface="Times New Roman"/>
              </a:rPr>
              <a:t>можно и нужно развивать!</a:t>
            </a:r>
            <a:r>
              <a:rPr b="1" lang="ru-RU" sz="7200" spc="-1" strike="noStrike">
                <a:solidFill>
                  <a:srgbClr val="376092"/>
                </a:solidFill>
                <a:latin typeface="Cambria"/>
              </a:rPr>
              <a:t> </a:t>
            </a:r>
            <a:endParaRPr b="1" lang="en-US" sz="72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0012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Игры на развитие внимания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Тестирование 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07640" y="1413000"/>
            <a:ext cx="8785080" cy="24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7-8 баллов</a:t>
            </a:r>
            <a:r>
              <a:rPr b="1" lang="ru-RU" sz="2800" spc="-1" strike="noStrike">
                <a:solidFill>
                  <a:srgbClr val="404040"/>
                </a:solidFill>
                <a:latin typeface="Garamond"/>
              </a:rPr>
              <a:t>. Живете душа в душу. Ребенок любит и  уважает вас.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9-10 баллов</a:t>
            </a:r>
            <a:r>
              <a:rPr b="1" lang="ru-RU" sz="2800" spc="-1" strike="noStrike">
                <a:solidFill>
                  <a:srgbClr val="404040"/>
                </a:solidFill>
                <a:latin typeface="Garamond"/>
              </a:rPr>
              <a:t>. Вы непоследовательны в общении. Ребенок вас уважает, но не всегда откровенен.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11 -12 баллов</a:t>
            </a:r>
            <a:r>
              <a:rPr b="1" lang="ru-RU" sz="2800" spc="-1" strike="noStrike">
                <a:solidFill>
                  <a:srgbClr val="404040"/>
                </a:solidFill>
                <a:latin typeface="Garamond"/>
              </a:rPr>
              <a:t>. Необходимо быть к ребенку повнимательнее. Авторитет не заменяет любовь.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13-14 баллов</a:t>
            </a:r>
            <a:r>
              <a:rPr b="1" lang="ru-RU" sz="2800" spc="-1" strike="noStrike">
                <a:solidFill>
                  <a:srgbClr val="404040"/>
                </a:solidFill>
                <a:latin typeface="Garamond"/>
              </a:rPr>
              <a:t>. Идете по неверному пути. Существует недоверие между вами и ребенком. Уделяйте ему больше времени, уважайте его, прислушивайтесь к его мнению</a:t>
            </a: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 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 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Памятка для родителей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8000" y="1557360"/>
            <a:ext cx="885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помогите вашим детям стать внимательными;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600" spc="-1" strike="noStrike">
                <a:solidFill>
                  <a:srgbClr val="0070c0"/>
                </a:solidFill>
                <a:latin typeface="Garamond"/>
              </a:rPr>
              <a:t>приобретайте, читайте и используйте книги, в которых можно найти упражнения и игры, способствующие развитию внимания;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600" spc="-1" strike="noStrike">
                <a:solidFill>
                  <a:srgbClr val="7030a0"/>
                </a:solidFill>
                <a:latin typeface="Garamond"/>
              </a:rPr>
              <a:t>играйте вместе с детьми в различные игры, развивающие все свойства  внимания;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036000" cy="26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научите играть в шахматы и шашки, ведь эти игры называют «школой внимания»;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200" spc="-1" strike="noStrike">
                <a:solidFill>
                  <a:srgbClr val="e46c0a"/>
                </a:solidFill>
                <a:latin typeface="Garamond"/>
              </a:rPr>
              <a:t>не забывайте о спортивных и подвижных играх, благодаря которым можно развивать не только силу и ловкость, но и внимание, воображение, быстроту мышления;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- </a:t>
            </a:r>
            <a:r>
              <a:rPr b="1" lang="ru-RU" sz="3200" spc="-1" strike="noStrike">
                <a:solidFill>
                  <a:srgbClr val="215968"/>
                </a:solidFill>
                <a:latin typeface="Garamond"/>
              </a:rPr>
              <a:t>учите детей быть наблюдательными – умеющими замечать изменения, происходящие в окружающем мире, видеть необычное в обычном, незнакомое в знакомом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9440" y="571320"/>
            <a:ext cx="8674200" cy="388764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76092"/>
                </a:solidFill>
                <a:latin typeface="Times New Roman"/>
              </a:rPr>
              <a:t>«Сегодня на родительском собрании мы поняли, что внимание…</a:t>
            </a:r>
            <a:r>
              <a:rPr b="1" lang="ru-RU" sz="4400" spc="-1" strike="noStrike">
                <a:solidFill>
                  <a:srgbClr val="376092"/>
                </a:solidFill>
                <a:latin typeface="Cambria"/>
              </a:rPr>
              <a:t>»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142640" y="2214360"/>
            <a:ext cx="70722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8800" spc="-1" strike="noStrike">
                <a:solidFill>
                  <a:srgbClr val="376092"/>
                </a:solidFill>
                <a:latin typeface="Trebuchet MS"/>
              </a:rPr>
              <a:t>Спасибо за внимание </a:t>
            </a:r>
            <a:endParaRPr b="1" lang="en-US" sz="8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30592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 </a:t>
            </a:r>
            <a:r>
              <a:rPr b="1" lang="ru-RU" sz="4400" spc="-1" strike="noStrike">
                <a:solidFill>
                  <a:srgbClr val="f2f2f2"/>
                </a:solidFill>
                <a:latin typeface="Bookman Old Style"/>
              </a:rPr>
              <a:t> 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9280" y="1484280"/>
            <a:ext cx="885672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040"/>
                </a:solidFill>
                <a:latin typeface="Garamond"/>
              </a:rPr>
              <a:t>«Сделать  серьёзное занятие для ребёнка занимательным – вот задача обучения»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Garamond"/>
              </a:rPr>
              <a:t>К.Д. Ушинский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8313840" cy="350028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76092"/>
                </a:solidFill>
                <a:latin typeface="Times New Roman"/>
              </a:rPr>
              <a:t>Внимательный ребёнок</a:t>
            </a:r>
            <a:r>
              <a:rPr b="1" lang="ru-RU" sz="7200" spc="-1" strike="noStrike">
                <a:solidFill>
                  <a:srgbClr val="376092"/>
                </a:solidFill>
                <a:latin typeface="Times New Roman"/>
              </a:rPr>
              <a:t> – это …</a:t>
            </a:r>
            <a:endParaRPr b="1" lang="en-US" sz="72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840" y="188640"/>
            <a:ext cx="8229600" cy="143964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</a:rPr>
              <a:t>Результаты анкетирования родителей</a:t>
            </a:r>
            <a:endParaRPr b="1" lang="en-US" sz="43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344520" y="1432080"/>
            <a:ext cx="874224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0012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404040"/>
              </a:solidFill>
              <a:latin typeface="Garamond"/>
            </a:endParaRPr>
          </a:p>
        </p:txBody>
      </p:sp>
      <p:pic>
        <p:nvPicPr>
          <p:cNvPr id="100" name="Диаграмма 3" descr=""/>
          <p:cNvPicPr/>
          <p:nvPr/>
        </p:nvPicPr>
        <p:blipFill>
          <a:blip r:embed="rId1"/>
          <a:stretch/>
        </p:blipFill>
        <p:spPr>
          <a:xfrm>
            <a:off x="272880" y="1146240"/>
            <a:ext cx="852660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2600" y="1357200"/>
            <a:ext cx="7775640" cy="3456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 u="sng">
                <a:solidFill>
                  <a:srgbClr val="f2f2f2"/>
                </a:solidFill>
                <a:uFillTx/>
                <a:latin typeface="Times New Roman"/>
              </a:rPr>
              <a:t> </a:t>
            </a:r>
            <a:r>
              <a:rPr b="1" i="1" lang="ru-RU" sz="4900" spc="-1" strike="noStrike" u="sng">
                <a:solidFill>
                  <a:srgbClr val="376092"/>
                </a:solidFill>
                <a:uFillTx/>
                <a:latin typeface="Times New Roman"/>
              </a:rPr>
              <a:t>Внимание</a:t>
            </a:r>
            <a:r>
              <a:rPr b="1" i="1" lang="ru-RU" sz="4300" spc="-1" strike="noStrike">
                <a:solidFill>
                  <a:srgbClr val="376092"/>
                </a:solidFill>
                <a:latin typeface="Times New Roman"/>
              </a:rPr>
              <a:t> – это способность человека сосредоточиться на определенных объектах и явлениях</a:t>
            </a:r>
            <a:r>
              <a:rPr b="1" lang="ru-RU" sz="2900" spc="-1" strike="noStrike">
                <a:solidFill>
                  <a:srgbClr val="376092"/>
                </a:solidFill>
                <a:latin typeface="Cambria"/>
              </a:rPr>
              <a:t> </a:t>
            </a:r>
            <a:endParaRPr b="1" lang="en-US" sz="29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11988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Виды внимания</a:t>
            </a:r>
            <a:endParaRPr b="1" lang="en-US" sz="40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50012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Произвольное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 algn="ctr"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Garamond"/>
              </a:rPr>
              <a:t>Непроизвольное 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1499760"/>
            <a:ext cx="8313480" cy="352908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76092"/>
                </a:solidFill>
                <a:latin typeface="Times New Roman"/>
              </a:rPr>
              <a:t>Основные свойства внимания -</a:t>
            </a:r>
            <a:r>
              <a:rPr b="1" lang="ru-RU" sz="4800" spc="-1" strike="noStrike">
                <a:solidFill>
                  <a:srgbClr val="376092"/>
                </a:solidFill>
                <a:latin typeface="Times New Roman"/>
              </a:rPr>
              <a:t>  концентрация, объём, устойчивость, распределение и переключение</a:t>
            </a:r>
            <a:r>
              <a:rPr b="1" lang="ru-RU" sz="4800" spc="-1" strike="noStrike">
                <a:solidFill>
                  <a:srgbClr val="376092"/>
                </a:solidFill>
                <a:latin typeface="Cambria"/>
              </a:rPr>
              <a:t> </a:t>
            </a:r>
            <a:endParaRPr b="1" lang="en-US" sz="48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120" y="2928960"/>
            <a:ext cx="8642520" cy="2448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Times New Roman"/>
              </a:rPr>
              <a:t>Концентрация внимания- умение сосредоточиться на нужном объекте, отдельных его частях или признаках, способность вникнуть в проблему, задачу</a:t>
            </a:r>
            <a:endParaRPr b="1" lang="en-US" sz="48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p:transition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21:23:48Z</dcterms:created>
  <dc:creator> Admin</dc:creator>
  <dc:description/>
  <dc:language>en-US</dc:language>
  <cp:lastModifiedBy>учитель</cp:lastModifiedBy>
  <dcterms:modified xsi:type="dcterms:W3CDTF">2015-03-03T10:27:14Z</dcterms:modified>
  <cp:revision>22</cp:revision>
  <dc:subject/>
  <dc:title> Тема собрания «Как помочь ребёнку стать внимательным?»</dc:title>
</cp:coreProperties>
</file>