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BC4-E211-482F-9281-87F5A865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52C-FDE7-41E5-B7E6-866DE92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C60-3EB2-4CE2-B8DD-967FA6CE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EDF-EAC7-4DEC-AC65-FE6E83B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490B-BF9D-4BDC-B79A-5161D61D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5DA7-BC84-46A9-997F-B21AD985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2B7F-B8C0-45C1-BB5D-E009D16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C849-7335-40EB-ABA0-6810795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A649-CC12-414B-9F09-ECA05EC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D31D-D0BC-4024-95DC-1CAB096B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47F3-8898-4C53-8568-4DD9B20D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B75-E52C-40AA-B59A-03D1B01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F83A-FC7E-40A1-9FE0-82236CC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67B9-03F8-4A44-BF5F-F789FD2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A6A-2F5F-4361-9EB4-D2A32017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97B6-D080-450D-A4FC-78C1C7B7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C83-23F8-4237-A14D-9E5A2850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F25-7FFC-4C0C-BD7F-66A26700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886-ED83-4972-B406-ECB6FA2A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9A9-8E51-4346-81C5-7805D88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A3D-A818-4C35-828F-C930AF3A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B0D-0246-4985-A9BC-F3D7EC5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E11-30D7-4B64-B093-17FFE45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24D-AE65-4833-8637-6E35E76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72A3-E98C-4270-AB17-BBBA26A1BE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7694-44AE-473A-9948-39303691C8E6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1;&#1087;&#1088;&#1072;&#1078;&#1085;&#1077;&#1085;&#1080;&#1103;%20&#1085;&#1072;%20&#1074;&#1085;&#1080;&#1084;&#1072;&#1085;&#1080;&#1077;.pptx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1484280"/>
            <a:ext cx="7772400" cy="4284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376092"/>
                </a:solidFill>
                <a:latin typeface="Times New Roman"/>
              </a:rPr>
              <a:t>ТЕМА СОБРАНИЯ</a:t>
            </a:r>
            <a:br>
              <a:rPr sz="6000"/>
            </a:br>
            <a:r>
              <a:rPr b="1" lang="ru-RU" sz="6000" spc="-1" strike="noStrike">
                <a:solidFill>
                  <a:srgbClr val="376092"/>
                </a:solidFill>
                <a:latin typeface="Cambria"/>
              </a:rPr>
              <a:t>«КАК ПОМОЧЬ РЕБЁНКУ СТАТЬ ВНИМАТЕЛЬНЫМ?»</a:t>
            </a:r>
            <a:endParaRPr b="1" lang="en-US" sz="6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92000" y="5661000"/>
            <a:ext cx="5002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6092"/>
                </a:solidFill>
                <a:latin typeface="Times New Roman"/>
              </a:rPr>
              <a:t>Составила: Григорьева М.А., учитель начальных классов МОУ СОШ с. Талдан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1071720"/>
            <a:ext cx="8064360" cy="3960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Объём внимания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характеризуется количеством одновременно воспринимаемых и удерживаемых в сознании объектов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928440"/>
            <a:ext cx="8745480" cy="5040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Устойчивость внимания-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это одновременное внимание к двум или нескольким объектам при одновременном выполнении действий с ними или наблюдения за ними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8601120" cy="3528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Переключение внимания-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это перемещение внимания с одного объекта на другой или с одной деятельности на другую в связи с постановкой новой задачи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529480" cy="38577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Внимание </a:t>
            </a:r>
            <a:br>
              <a:rPr sz="7200"/>
            </a:b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можно и нужно развивать!</a:t>
            </a:r>
            <a:r>
              <a:rPr b="1" lang="ru-RU" sz="7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Игры на развитие внима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Тестирование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7640" y="1413000"/>
            <a:ext cx="878508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7-8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Живете душа в душу. Ребенок любит и  уважает вас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9-10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Вы непоследовательны в общении. Ребенок вас уважает, но не всегда откровенен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1 -12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Необходимо быть к ребенку повнимательнее. Авторитет не заменяет любовь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3-14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Идете по неверному пути. Существует недоверие между вами и ребенком. Уделяйте ему больше времени, уважайте его, прислушивайтесь к его мнению</a:t>
            </a: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Памятка для родителей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885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могите вашим детям стать внимательными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приобретайте, читайте и используйте книги, в которых можно найти упражнения и игры, способствующие развитию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7030a0"/>
                </a:solidFill>
                <a:latin typeface="Garamond"/>
              </a:rPr>
              <a:t>играйте вместе с детьми в различные игры, развивающие все свойства 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03600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аучите играть в шахматы и шашки, ведь эти игры называют «школой внимания»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e46c0a"/>
                </a:solidFill>
                <a:latin typeface="Garamond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215968"/>
                </a:solidFill>
                <a:latin typeface="Garamond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 в знакомом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571320"/>
            <a:ext cx="8674200" cy="3887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6092"/>
                </a:solidFill>
                <a:latin typeface="Times New Roman"/>
              </a:rPr>
              <a:t>«Сегодня на родительском собрании мы поняли, что внимание…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»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42640" y="2214360"/>
            <a:ext cx="7072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8800" spc="-1" strike="noStrike">
                <a:solidFill>
                  <a:srgbClr val="376092"/>
                </a:solidFill>
                <a:latin typeface="Trebuchet MS"/>
              </a:rPr>
              <a:t>Спасибо за внимание 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30592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f2f2f2"/>
                </a:solidFill>
                <a:latin typeface="Bookman Old Style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Garamond"/>
              </a:rPr>
              <a:t>«Сделать  серьёзное занятие для ребёнка занимательным – вот задача обучения»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К.Д. Ушинский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313840" cy="35002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76092"/>
                </a:solidFill>
                <a:latin typeface="Times New Roman"/>
              </a:rPr>
              <a:t>Внимательный ребёнок</a:t>
            </a: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 – это …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229600" cy="1439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родителей</a:t>
            </a:r>
            <a:endParaRPr b="1" lang="en-US" sz="43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344520" y="1432080"/>
            <a:ext cx="874224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100" name="Диаграмма 3" descr=""/>
          <p:cNvPicPr/>
          <p:nvPr/>
        </p:nvPicPr>
        <p:blipFill>
          <a:blip r:embed="rId1"/>
          <a:stretch/>
        </p:blipFill>
        <p:spPr>
          <a:xfrm>
            <a:off x="272880" y="1146240"/>
            <a:ext cx="852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1357200"/>
            <a:ext cx="7775640" cy="3456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2f2f2"/>
                </a:solidFill>
                <a:uFillTx/>
                <a:latin typeface="Times New Roman"/>
              </a:rPr>
              <a:t> </a:t>
            </a:r>
            <a:r>
              <a:rPr b="1" i="1" lang="ru-RU" sz="4900" spc="-1" strike="noStrike" u="sng">
                <a:solidFill>
                  <a:srgbClr val="376092"/>
                </a:solidFill>
                <a:uFillTx/>
                <a:latin typeface="Times New Roman"/>
              </a:rPr>
              <a:t>Внимание</a:t>
            </a:r>
            <a:r>
              <a:rPr b="1" i="1" lang="ru-RU" sz="4300" spc="-1" strike="noStrike">
                <a:solidFill>
                  <a:srgbClr val="376092"/>
                </a:solidFill>
                <a:latin typeface="Times New Roman"/>
              </a:rPr>
              <a:t> – это способность человека сосредоточиться на определенных объектах и явлениях</a:t>
            </a:r>
            <a:r>
              <a:rPr b="1" lang="ru-RU" sz="29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9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иды внимания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Произвольное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Непроизвольное 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313480" cy="3529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Основные свойства внимания -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  концентрация, объём, устойчивость, распределение и переключение</a:t>
            </a: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120" y="2928960"/>
            <a:ext cx="8642520" cy="2448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Концентрация внимания- умение сосредоточиться на нужном объекте, отдельных его частях или признаках, способность вникнуть в проблему, задачу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23:48Z</dcterms:created>
  <dc:creator> Admin</dc:creator>
  <dc:description/>
  <dc:language>en-US</dc:language>
  <cp:lastModifiedBy>учитель</cp:lastModifiedBy>
  <dcterms:modified xsi:type="dcterms:W3CDTF">2015-03-03T10:27:14Z</dcterms:modified>
  <cp:revision>22</cp:revision>
  <dc:subject/>
  <dc:title> Тема собрания «Как помочь ребёнку стать внимательным?»</dc:title>
</cp:coreProperties>
</file>