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6F0-0AFE-4616-91AD-8293A910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DC5-82A4-46D6-AA9B-FB314804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51B-9EC8-4128-83A1-3B0D2F50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5C9-D463-4C1E-AB9D-CD61598A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3A82-5DCA-46F6-BDA9-A2590AE4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1746-349B-4C17-9892-862F7873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24FD-63D0-4A9C-AF69-15C420AE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F808-F7C2-4BA7-9FBD-9C066492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EF28-5383-43EC-95D5-7E1ADA82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E224-702B-4BBF-81A6-CD5C1668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46F1-42B2-441B-A3E8-F0E5BA4A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3DD-6519-4B32-B2C9-30091E2C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6E8C-6B3D-4993-8BB5-045B8AD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946B-19DB-4274-B179-B07E0001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BE8E-B0AE-4AD5-9007-B1B96238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491D-02F6-49BD-B537-EF3AB63F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8E30-0F0A-4E4C-ABCF-B29BD082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E4F-96AD-4251-9DF6-02A3EAB2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96E-33CA-46B6-A75A-96252798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857-ED62-4C52-B2F6-87B6F804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BDF-6FCE-426B-B67C-EFB13866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370-FF28-4227-8068-C3B96BDA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FE4-CBC7-48B2-A931-1F23397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841-FC19-490D-9660-58ED42A2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E9A6-D9EB-41C0-BD65-906EB8ADECC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F59A-F622-491A-B105-DA9DD4422598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91;&#1087;&#1088;&#1072;&#1078;&#1085;&#1077;&#1085;&#1080;&#1103;%20&#1085;&#1072;%20&#1074;&#1085;&#1080;&#1084;&#1072;&#1085;&#1080;&#1077;.pptx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1484280"/>
            <a:ext cx="7772400" cy="4284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376092"/>
                </a:solidFill>
                <a:latin typeface="Times New Roman"/>
              </a:rPr>
              <a:t>ТЕМА СОБРАНИЯ</a:t>
            </a:r>
            <a:br>
              <a:rPr sz="6000"/>
            </a:br>
            <a:r>
              <a:rPr b="1" lang="ru-RU" sz="6000" spc="-1" strike="noStrike">
                <a:solidFill>
                  <a:srgbClr val="376092"/>
                </a:solidFill>
                <a:latin typeface="Cambria"/>
              </a:rPr>
              <a:t>«КАК ПОМОЧЬ РЕБЁНКУ СТАТЬ ВНИМАТЕЛЬНЫМ?»</a:t>
            </a:r>
            <a:endParaRPr b="1" lang="en-US" sz="6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92000" y="5661000"/>
            <a:ext cx="5002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6092"/>
                </a:solidFill>
                <a:latin typeface="Times New Roman"/>
              </a:rPr>
              <a:t>Составила: Григорьева М.А., учитель начальных классов МОУ СОШ с. Талдан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1071720"/>
            <a:ext cx="8064360" cy="3960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Times New Roman"/>
              </a:rPr>
              <a:t>Объём внимания</a:t>
            </a:r>
            <a:r>
              <a:rPr b="1" lang="ru-RU" sz="4400" spc="-1" strike="noStrike">
                <a:solidFill>
                  <a:srgbClr val="376092"/>
                </a:solidFill>
                <a:latin typeface="Times New Roman"/>
              </a:rPr>
              <a:t> характеризуется количеством одновременно воспринимаемых и удерживаемых в сознании объектов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8160" y="928440"/>
            <a:ext cx="8745480" cy="50403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76092"/>
                </a:solidFill>
                <a:latin typeface="Times New Roman"/>
              </a:rPr>
              <a:t>Устойчивость внимания- 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это одновременное внимание к двум или нескольким объектам при одновременном выполнении действий с ними или наблюдения за ними</a:t>
            </a:r>
            <a:r>
              <a:rPr b="1" lang="ru-RU" sz="44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571760"/>
            <a:ext cx="8601120" cy="3528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Times New Roman"/>
              </a:rPr>
              <a:t>Переключение внимания-</a:t>
            </a:r>
            <a:r>
              <a:rPr b="1" lang="ru-RU" sz="4400" spc="-1" strike="noStrike">
                <a:solidFill>
                  <a:srgbClr val="376092"/>
                </a:solidFill>
                <a:latin typeface="Times New Roman"/>
              </a:rPr>
              <a:t> это перемещение внимания с одного объекта на другой или с одной деятельности на другую в связи с постановкой новой задачи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642960"/>
            <a:ext cx="8529480" cy="38577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Внимание </a:t>
            </a:r>
            <a:br>
              <a:rPr sz="7200"/>
            </a:b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можно и нужно развивать!</a:t>
            </a:r>
            <a:r>
              <a:rPr b="1" lang="ru-RU" sz="72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Игры на развитие внимания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Тестирование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07640" y="1413000"/>
            <a:ext cx="878508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7-8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Живете душа в душу. Ребенок любит и  уважает вас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9-10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Вы непоследовательны в общении. Ребенок вас уважает, но не всегда откровенен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11 -12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Необходимо быть к ребенку повнимательнее. Авторитет не заменяет любовь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13-14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Идете по неверному пути. Существует недоверие между вами и ребенком. Уделяйте ему больше времени, уважайте его, прислушивайтесь к его мнению</a:t>
            </a: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Памятка для родителей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8000" y="1557360"/>
            <a:ext cx="885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могите вашим детям стать внимательными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0070c0"/>
                </a:solidFill>
                <a:latin typeface="Garamond"/>
              </a:rPr>
              <a:t>приобретайте, читайте и используйте книги, в которых можно найти упражнения и игры, способствующие развитию внимания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7030a0"/>
                </a:solidFill>
                <a:latin typeface="Garamond"/>
              </a:rPr>
              <a:t>играйте вместе с детьми в различные игры, развивающие все свойства  внимания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03600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научите играть в шахматы и шашки, ведь эти игры называют «школой внимания»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e46c0a"/>
                </a:solidFill>
                <a:latin typeface="Garamond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215968"/>
                </a:solidFill>
                <a:latin typeface="Garamond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 в знакомом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440" y="571320"/>
            <a:ext cx="8674200" cy="38876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76092"/>
                </a:solidFill>
                <a:latin typeface="Times New Roman"/>
              </a:rPr>
              <a:t>«Сегодня на родительском собрании мы поняли, что внимание…</a:t>
            </a:r>
            <a:r>
              <a:rPr b="1" lang="ru-RU" sz="4400" spc="-1" strike="noStrike">
                <a:solidFill>
                  <a:srgbClr val="376092"/>
                </a:solidFill>
                <a:latin typeface="Cambria"/>
              </a:rPr>
              <a:t>»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142640" y="2214360"/>
            <a:ext cx="70722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8800" spc="-1" strike="noStrike">
                <a:solidFill>
                  <a:srgbClr val="376092"/>
                </a:solidFill>
                <a:latin typeface="Trebuchet MS"/>
              </a:rPr>
              <a:t>Спасибо за внимание </a:t>
            </a: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30592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f2f2f2"/>
                </a:solidFill>
                <a:latin typeface="Bookman Old Style"/>
              </a:rPr>
              <a:t>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85672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Garamond"/>
              </a:rPr>
              <a:t>«Сделать  серьёзное занятие для ребёнка занимательным – вот задача обучения»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К.Д. Ушинский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8313840" cy="35002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76092"/>
                </a:solidFill>
                <a:latin typeface="Times New Roman"/>
              </a:rPr>
              <a:t>Внимательный ребёнок</a:t>
            </a: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 – это …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229600" cy="14396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родителей</a:t>
            </a:r>
            <a:endParaRPr b="1" lang="en-US" sz="43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344520" y="1432080"/>
            <a:ext cx="874224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404040"/>
              </a:solidFill>
              <a:latin typeface="Garamond"/>
            </a:endParaRPr>
          </a:p>
        </p:txBody>
      </p:sp>
      <p:pic>
        <p:nvPicPr>
          <p:cNvPr id="100" name="Диаграмма 3" descr=""/>
          <p:cNvPicPr/>
          <p:nvPr/>
        </p:nvPicPr>
        <p:blipFill>
          <a:blip r:embed="rId1"/>
          <a:stretch/>
        </p:blipFill>
        <p:spPr>
          <a:xfrm>
            <a:off x="272880" y="1146240"/>
            <a:ext cx="8526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600" y="1357200"/>
            <a:ext cx="7775640" cy="3456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f2f2f2"/>
                </a:solidFill>
                <a:uFillTx/>
                <a:latin typeface="Times New Roman"/>
              </a:rPr>
              <a:t> </a:t>
            </a:r>
            <a:r>
              <a:rPr b="1" i="1" lang="ru-RU" sz="4900" spc="-1" strike="noStrike" u="sng">
                <a:solidFill>
                  <a:srgbClr val="376092"/>
                </a:solidFill>
                <a:uFillTx/>
                <a:latin typeface="Times New Roman"/>
              </a:rPr>
              <a:t>Внимание</a:t>
            </a:r>
            <a:r>
              <a:rPr b="1" i="1" lang="ru-RU" sz="4300" spc="-1" strike="noStrike">
                <a:solidFill>
                  <a:srgbClr val="376092"/>
                </a:solidFill>
                <a:latin typeface="Times New Roman"/>
              </a:rPr>
              <a:t> – это способность человека сосредоточиться на определенных объектах и явлениях</a:t>
            </a:r>
            <a:r>
              <a:rPr b="1" lang="ru-RU" sz="29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29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1988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Виды внимания</a:t>
            </a:r>
            <a:endParaRPr b="1" lang="en-US" sz="4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Произвольное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 algn="ctr"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Непроизвольное 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1499760"/>
            <a:ext cx="8313480" cy="35290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76092"/>
                </a:solidFill>
                <a:latin typeface="Times New Roman"/>
              </a:rPr>
              <a:t>Основные свойства внимания -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  концентрация, объём, устойчивость, распределение и переключение</a:t>
            </a:r>
            <a:r>
              <a:rPr b="1" lang="ru-RU" sz="48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48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120" y="2928960"/>
            <a:ext cx="8642520" cy="2448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Концентрация внимания- умение сосредоточиться на нужном объекте, отдельных его частях или признаках, способность вникнуть в проблему, задачу</a:t>
            </a:r>
            <a:endParaRPr b="1" lang="en-US" sz="48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21:23:48Z</dcterms:created>
  <dc:creator> Admin</dc:creator>
  <dc:description/>
  <dc:language>en-US</dc:language>
  <cp:lastModifiedBy>учитель</cp:lastModifiedBy>
  <dcterms:modified xsi:type="dcterms:W3CDTF">2015-03-03T10:27:14Z</dcterms:modified>
  <cp:revision>22</cp:revision>
  <dc:subject/>
  <dc:title> Тема собрания «Как помочь ребёнку стать внимательным?»</dc:title>
</cp:coreProperties>
</file>